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29.jpeg" ContentType="image/jpeg"/>
  <Override PartName="/ppt/media/image8.wmf" ContentType="image/x-wmf"/>
  <Override PartName="/ppt/media/image12.jpeg" ContentType="image/jpeg"/>
  <Override PartName="/ppt/media/image6.wmf" ContentType="image/x-wmf"/>
  <Override PartName="/ppt/media/image7.jpeg" ContentType="image/jpeg"/>
  <Override PartName="/ppt/media/image5.wmf" ContentType="image/x-wmf"/>
  <Override PartName="/ppt/media/image28.wmf" ContentType="image/x-wmf"/>
  <Override PartName="/ppt/media/image4.jpeg" ContentType="image/jpeg"/>
  <Override PartName="/ppt/media/image25.jpeg" ContentType="image/jpeg"/>
  <Override PartName="/ppt/media/image13.jpeg" ContentType="image/jpeg"/>
  <Override PartName="/ppt/media/image27.wmf" ContentType="image/x-wmf"/>
  <Override PartName="/ppt/media/image21.jpeg" ContentType="image/jpeg"/>
  <Override PartName="/ppt/media/image24.png" ContentType="image/png"/>
  <Override PartName="/ppt/media/image18.jpeg" ContentType="image/jpeg"/>
  <Override PartName="/ppt/media/image22.jpeg" ContentType="image/jpeg"/>
  <Override PartName="/ppt/media/image20.jpeg" ContentType="image/jpeg"/>
  <Override PartName="/ppt/media/image17.wmf" ContentType="image/x-wmf"/>
  <Override PartName="/ppt/media/image19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9E7-1476-4EF8-87BC-072C7D42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A5A-3C86-41AB-BD51-A91E4678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BF5-7A0E-4AF3-B8FD-1C3E66C7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3F6-0F38-4B4C-B5F1-E24B42F3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0A3-F602-4BAD-95A0-2AFFED5E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96E-AB55-4646-8870-E86FEC4B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73D-BC85-410A-AFE5-DF64560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5D6-BAB4-46DE-BA29-323BE4AA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489-771C-474C-8FB4-ED8CAC75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A84-02B1-4B68-8EE5-B436D896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0E4-C111-47AA-8A8A-20232A8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A39-EC69-469D-A775-2AD364EB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14BE-A746-474E-89E3-7220B7D2AB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farm1.static.flickr.com/133/422305237_6df71eb5d4_o.jpg&amp;imgrefurl=http://bldgblog.blogspot.com/2007/03/tv-mine.html&amp;h=416&amp;w=450&amp;sz=30&amp;hl=en&amp;start=1&amp;usg=__2y2T5loD1OdH3ii3keA-wdYmm4A=&amp;tbnid=le9H0ZcKRaABlM:&amp;tbnh=117&amp;tbnw=127&amp;prev=/images%3Fq%3DA%2BTV%26gbv%3D2%26hl%3Den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images.google.co.uk/imgres?imgurl=http://lh5.ggpht.com/_phKXNT-ODqA/RpJZXOvSdzI/AAAAAAAACmE/6Vim7YbUOIg/_DSC0832.JPG&amp;imgrefurl=http://picasaweb.google.com/lh/photo/Frvpindua3Gh2ogRpqDsng&amp;h=1071&amp;w=1600&amp;sz=17&amp;hl=en&amp;start=9&amp;um=1&amp;usg=__RduVG2R-RW0E0faoCBlTXR9f0No=&amp;tbnid=TaeV_zkzAynjUM:&amp;tbnh=100&amp;tbnw=150&amp;prev=/images%3Fq%3Dfoot%2Bpaths%26um%3D1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images.google.co.uk/imgres?imgurl=http://www.proengraving.com/images/registers.jpg&amp;imgrefurl=http://www.proengraving.com/popular.htm&amp;h=268&amp;w=320&amp;sz=15&amp;hl=en&amp;start=14&amp;um=1&amp;usg=__YECFD2VE8npVPaRVpqU0ehI4H4o=&amp;tbnid=rbLH83jCLH8__M:&amp;tbnh=99&amp;tbnw=118&amp;prev=/images%3Fq%3Dregisters%26um%3D1%26hl%3Den%26sa%3DN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hyperlink" Target="http://images.google.co.uk/imgres?imgurl=http://batr.org/sitebuildercontent/sitebuilderpictures/quiz_icon.gif&amp;imgrefurl=http://batr.org/tests.html&amp;h=154&amp;w=180&amp;sz=9&amp;hl=en&amp;start=2&amp;um=1&amp;usg=__SsRr6EAuhBSm_veML1y24R2AUO0=&amp;tbnid=lzhcOuc_397y4M:&amp;tbnh=86&amp;tbnw=101&amp;prev=/images%3Fq%3Dquizs%26um%3D1%26hl%3De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ncesaintmarys.wigan.sch.uk/IMAGES/english_book.gif&amp;imgrefurl=http://www.incesaintmarys.wigan.sch.uk/&amp;h=619&amp;w=529&amp;sz=6&amp;hl=en&amp;start=3&amp;usg=__MAgkIPSqn7nl6BSSw3PKGd0cfOs=&amp;tbnid=1SmP4piqAobB5M:&amp;tbnh=136&amp;tbnw=116&amp;prev=/images%3Fq%3Da%2BEnglish%2Bbook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.uk/imgres?imgurl=http://www.hln-store.com/catalog/experiments.gif&amp;imgrefurl=http://www.hln-store.com/servlet/Detail%3Fno%3D419&amp;h=300&amp;w=400&amp;sz=37&amp;hl=en&amp;start=3&amp;usg=__PL-2n1fAuZg8QF06xPq5hEliXT0=&amp;tbnid=WqG_gWF0pN0hiM:&amp;tbnh=93&amp;tbnw=124&amp;prev=/images%3Fq%3Dscience%2Bexperiments%26gbv%3D2%26hl%3Den%26sa%3DX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norcalblogs.com/sustainable/Paint.jpg&amp;imgrefurl=http://www.norcalblogs.com/sustainable/home_improvement/&amp;h=380&amp;w=368&amp;sz=17&amp;hl=en&amp;start=5&amp;usg=__ok-z1mbfe0fKKdo6YuTqdEnPorE=&amp;tbnid=EjHid_2AOL80eM:&amp;tbnh=123&amp;tbnw=119&amp;prev=/images%3Fq%3Dpaint%26gbv%3D2%26hl%3De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images.google.co.uk/imgres?imgurl=http://www.kellyskindergarten.com/Games/GamestoMake/images/pizza.JPG&amp;imgrefurl=http://www.kellyskindergarten.com/Games/GamestoMake/games_to_make.htm&amp;h=384&amp;w=512&amp;sz=36&amp;hl=en&amp;start=5&amp;usg=__pMDHQ51OuHdswhcf5RrNwGMC7qo=&amp;tbnid=uRkEePpq1JaSnM:&amp;tbnh=98&amp;tbnw=131&amp;prev=/images%3Fq%3Dpizza%26gbv%3D2%26hl%3Den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mages.google.co.uk/imgres?imgurl=http://www.littlegiraffes.com/appl.h1.gif&amp;imgrefurl=http://www.littlegiraffes.com/apples.html&amp;h=768&amp;w=1024&amp;sz=47&amp;hl=en&amp;start=8&amp;usg=__cJnBhGo6rc-v_MttMrTQxz4Fpyk=&amp;tbnid=NoKYox3EGByq-M:&amp;tbnh=113&amp;tbnw=150&amp;prev=/images%3Fq%3Ddrawn%2Bapples%26gbv%3D2%26hl%3Den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060640"/>
            <a:ext cx="7272360" cy="2089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2276640"/>
            <a:ext cx="684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DAY IN THE LI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10920" y="115560"/>
            <a:ext cx="3961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79640" y="5229360"/>
            <a:ext cx="4533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y Nikki Gorring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time !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LY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2060640"/>
            <a:ext cx="29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nother two gruelling lessons! You finally hear the last bell! YES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393372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at means that I have two walk all the way back hom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80000" y="4653000"/>
            <a:ext cx="1447560" cy="1366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659640" y="1484280"/>
            <a:ext cx="1679400" cy="251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77080" y="4365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back I 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836640"/>
            <a:ext cx="208908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141720"/>
            <a:ext cx="2592360" cy="165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2924280"/>
            <a:ext cx="1800000" cy="1655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Ho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411280" y="620640"/>
            <a:ext cx="43084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LAX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16360" y="2637000"/>
            <a:ext cx="2952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4000" y="4005360"/>
            <a:ext cx="187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95640" y="4653000"/>
            <a:ext cx="990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.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56000" y="5229360"/>
            <a:ext cx="4419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!!!!!!!!!!!!!!!!!!!!!!!!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068640"/>
            <a:ext cx="1511280" cy="1392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050920" y="5661000"/>
            <a:ext cx="554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SADLY HOMEWOR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203640" y="616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 flipH="1">
            <a:off x="6029280" y="6093000"/>
            <a:ext cx="558720" cy="649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39640" y="3398760"/>
            <a:ext cx="2016360" cy="107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24000" y="1052640"/>
            <a:ext cx="1811160" cy="166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3024000" cy="2263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35280" y="3357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aft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7280" y="4221000"/>
            <a:ext cx="697248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day at Gordano School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580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3789360"/>
            <a:ext cx="3384360" cy="230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20000" y="1628640"/>
            <a:ext cx="1439640" cy="237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get 2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77336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lk!! So I have to get up at 7:15. What time do you get up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flipH="1">
            <a:off x="6877080" y="1557360"/>
            <a:ext cx="172872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860640"/>
            <a:ext cx="3240000" cy="2160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4508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lk down a lane similar to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779640" y="47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98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651640" y="4149720"/>
            <a:ext cx="3024000" cy="237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197000"/>
            <a:ext cx="2160720" cy="26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the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075040" cy="2490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43280" y="220500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before the bell we hang around just outside the maths b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24360" y="4292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4336920"/>
            <a:ext cx="2664000" cy="1787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3058920" y="371628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330200">
            <a:off x="3132360" y="4076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20000" y="333360"/>
            <a:ext cx="1655640" cy="165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653000"/>
            <a:ext cx="1728720" cy="172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4724280"/>
            <a:ext cx="1547640" cy="155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981000"/>
            <a:ext cx="2016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125360"/>
            <a:ext cx="1657440" cy="1390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32000" y="2852640"/>
            <a:ext cx="32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utor time we normally take the register and it were lucky some fun, like quiz'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093080" y="404640"/>
            <a:ext cx="1504800" cy="1513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36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 M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19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842920" y="2491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940360" y="2276280"/>
            <a:ext cx="1079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68000" y="4797360"/>
            <a:ext cx="79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465300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4724280"/>
            <a:ext cx="21146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844640"/>
            <a:ext cx="2881440" cy="223200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2133720"/>
            <a:ext cx="2448000" cy="100800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508640"/>
            <a:ext cx="2303280" cy="129672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few 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84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second bell at 9:00 the whole school goes to there first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213372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onday week 1, my first lesson is Englis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29272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1628640"/>
            <a:ext cx="1289160" cy="1511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450864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bell goes at 9:50 I have to go from English to sc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22936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414972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5084640"/>
            <a:ext cx="417672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5157720"/>
            <a:ext cx="3311640" cy="122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413000"/>
            <a:ext cx="2016000" cy="266364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557360"/>
            <a:ext cx="4105080" cy="302400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and 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3673800" cy="244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56360" y="1341360"/>
            <a:ext cx="197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t break and lunch my friends and I hang out around these lock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148000" y="285264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084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’s my lock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476360" y="2708280"/>
            <a:ext cx="647640" cy="2232000"/>
          </a:xfrm>
          <a:prstGeom prst="line">
            <a:avLst/>
          </a:prstGeom>
          <a:ln w="9360">
            <a:solidFill>
              <a:srgbClr val="ff19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157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during break and lunch you can get some food, but you have to eat it all before you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589720"/>
            <a:ext cx="43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lasts for 20 minuets 10:40 – 1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unch lasts 55 minutes 12:40 – 1: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92360" y="5589720"/>
            <a:ext cx="3384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2637000"/>
            <a:ext cx="3529080" cy="12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700280"/>
            <a:ext cx="29527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ve 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7002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vourite lessons are D&amp;T and also AR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ike art because art is really fun and you can also </a:t>
            </a:r>
            <a:r>
              <a:rPr b="0" lang="en-US" sz="2000" spc="-1" strike="noStrike">
                <a:solidFill>
                  <a:srgbClr val="ff1919"/>
                </a:solidFill>
                <a:latin typeface="Arial"/>
              </a:rPr>
              <a:t>PA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284640"/>
            <a:ext cx="1970280" cy="2036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03640" y="2565360"/>
            <a:ext cx="36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 like D&amp;T because you get to make really cool things like wood peckers out of woo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203640" y="53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12000" y="4437000"/>
            <a:ext cx="2334960" cy="146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72360" y="3933720"/>
            <a:ext cx="21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435640" y="115920"/>
            <a:ext cx="3529080" cy="26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0"/>
            <a:ext cx="3529080" cy="2951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2997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our astro tur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332000" y="2349360"/>
            <a:ext cx="287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11592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ordano P.E. is either really fun or horrible, like the time my class and I had to run round and round this astro turf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4941720"/>
            <a:ext cx="1495440" cy="1748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948360" y="4797360"/>
            <a:ext cx="1689120" cy="1876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4360" y="429264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our sports h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84360" y="4941720"/>
            <a:ext cx="287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132000" y="2997360"/>
            <a:ext cx="3384720" cy="1873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04000" y="328464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e a little movie of girls basket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ch and can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20500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have lunch in the canteen, and every year can go into the canteen ( years 7 – 13 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1728720" cy="131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>
            <a:off x="2843280" y="501336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653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back of the cant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1557360"/>
            <a:ext cx="1944720" cy="1454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4869000"/>
            <a:ext cx="1511280" cy="1255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867280" y="306864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want you can by some pizz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4076640"/>
            <a:ext cx="17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if you want to be healthy … you can buy some appl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23:35Z</dcterms:created>
  <dc:creator>8nikkigorringe</dc:creator>
  <dc:description/>
  <dc:language>en-US</dc:language>
  <cp:lastModifiedBy>Technical Resources Manager</cp:lastModifiedBy>
  <dcterms:modified xsi:type="dcterms:W3CDTF">2008-11-24T11:29:47Z</dcterms:modified>
  <cp:revision>17</cp:revision>
  <dc:subject/>
  <dc:title>introduction</dc:title>
</cp:coreProperties>
</file>